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F92-F2E1-4FCB-84A0-91F67170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D0F-CE58-44F6-B2E3-5CEC0A6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DBD-C160-4D67-81F0-C3B686E8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ECE-8649-4002-A961-22AA1AD2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61AA-48E9-4BFE-B681-7AA54A74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383-86A3-4AE5-8D52-8427977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B5A-69C9-401E-9802-318CA21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86C1-DEE1-49DF-BFF4-23091EA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5164-0CCB-40A6-B7D0-6C8E1AC8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21DE-EBEC-4FEA-8E43-C393D71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03B4-FED4-4287-99F8-3F3D243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2D2-9F0B-4334-8361-5E946FB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640E-AB3C-4C78-BC04-F3B8E88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7109-F9AF-47A9-A4E5-4DFF81F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E47-0195-418C-9BAD-2446B19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B7CC-17EB-4506-9E28-097AAA9A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2F7-6E54-4D06-8337-B949B38E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547E-376F-4FC0-B1AA-6C2968EF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2E5C-0962-4D19-9B82-A698553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CF94-18BE-4777-8E3C-290FAFC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B3B3-EC96-4659-968B-0551000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BFC3-748D-45AD-AB5E-BA8E0E9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7B-1EED-4F81-888C-030FF61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0DC7-BB91-4EE0-9BEE-5DA5F93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DA29-1244-4780-B1EB-765E8F35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1E5C2-C4F4-4342-B279-4332308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C4BF-F06A-4395-B154-317A0F87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1CBA-350E-4B5C-AAF4-E4AFCEE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E13D-C632-492D-9921-16B22EB8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E112-5AA7-41B3-965F-417FD06B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ABDE-B86C-4C23-B691-D4F383C1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FC682-AB1B-418D-8CBB-8B45849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A613-C69F-4336-8A8C-3298B02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5F6-B861-4F80-A4D3-7E61739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BEB2-C226-4F1B-A3A7-8730A69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724F-1D73-4290-8A3F-77E99F1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9461-260E-4526-AE25-533DA9D7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7B6E-1D47-4B60-AE7F-427812D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63D0-0BC0-473E-B889-A24DB97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E40D-4933-4318-9A56-4D429E2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DC7B-A1A8-4106-BEB6-D9C4CE8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4D17-0A66-4F64-8A9A-3CF35B84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639D-678B-441E-86EF-B6E9FF86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E2BB-150D-43E1-908D-67AF43E6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341-0A6D-4063-9359-AF2B532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6C46-076F-40BE-A6DC-0C0C668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37CA-EAE1-4261-BA28-216400E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0319-0E74-40ED-9FC8-35DDEF5B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1C02-2959-4074-B040-3100E97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87F2-0771-49B1-A519-C431420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0D7F-2DBB-41F3-B711-713371B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5703-CEED-411B-B2E8-586ED99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51FE-C8A1-4610-8029-585188C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DE28-F14B-4D01-A83D-C87AA01B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BFD2-DF2E-49BD-8270-7EADFE22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D09-EC53-4BFB-9D73-5F44A4E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E9F1-899E-483B-B534-FC866AC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9994E-EC72-4702-B879-75305DDB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BA9C-14BA-4B72-BA65-23667D28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9CB2-69E3-41C3-BAFE-F867E97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479D-69A5-4F19-AE88-B708C867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B464-AEF6-4AA0-9BA2-634AFAA7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A06A-7312-4A10-9436-BD6A303D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64DB-DDCD-49C2-BACA-8D4A3FB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3D34-B96E-4A9C-9016-D595E21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CD6F-B385-421E-9BC9-8A20216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DC1-A1B4-47BA-AABA-EE67838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4C20-231F-45C7-B97F-EED1499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3DF0-B5C1-4A2F-8BC5-B0B94420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18B1-38D4-466A-A7A7-7C8CFA6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62C5-EFF4-4BB2-8F64-761BF3DF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B5F1-3238-45F4-B174-178A3EDA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8693E-728A-4E1B-8085-14D4BE6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CCCF8-C12F-4C6D-8F4C-0D4CA81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E719-9ABD-4C74-AB83-B4B4FD09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3792-D69C-4416-AE84-BBE6386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2DBAE-7789-40FB-9EEC-888726A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4BD-5F8E-467E-A66A-48548F8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09F4-9E54-4F67-915A-B7E4EA3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B6EA-9ED7-4570-B3A1-E3966C0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A71B-1891-4E82-A66F-6CF81FF2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CACF-DCBD-42A2-8893-94A5D8DA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7318-C8AD-4FE0-BDBC-77D97238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569-E5D1-4812-A56F-5C6DAC8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BF70-1C52-4900-B0F5-5FD4BA9A80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05D4-EF6A-46EF-B0E7-7114AD22B1A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747-415F-406B-8FC2-1E9A778BAF2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BFAB-216B-4913-B881-8ACF47AAD0C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94A-EB7B-4C5B-A237-A89A7C21D83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5DFB-2E71-4D6F-A124-30853211970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B9E3-C792-4C0E-88FF-4167E0D6E65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uropean Stateh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eneral Inform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447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narchs were weakened by: HYWar, plague, feud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ynical, calculating, power-hungry, feared over loved . . .  Machiavell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oyal authority &amp; national purpo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narchy was the uniting force of all subje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ppress rebell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ax businessmen in return for stabil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ly Roman Empire (Germany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actured into principa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uldn’t deal with Rome as an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356 – Golden Bull: 7 electors select emper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ichstag: a diet of electors, princes &amp; free cities that could enact refor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fect origin for a religious re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an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914040"/>
            <a:ext cx="77724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eys to French suc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llapse of the English Empire after HY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feat of Charles the Bold (Burgundy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rles VII (r 1422-1461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trong economy under Jacques Coeu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ional administration/diplomatic corp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uis XI (r 1461-1483) son of Char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moted industry and trade… sil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vaded Burgund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iddle class money to destroy feudal lo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tart of royal absolutis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ance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uis XII marries Anne of Brittany which expands the 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ordat of Bologna: French king controls the appointment of church officials inside Fra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gla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akened by HYW defea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ar of Roses and rival nobles decentraliz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ry VII (r1485-1509) follows Richard III (murdered Edward IV’s sons?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rries Edward’s daughter to consolid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voids war in order to cut spending – no need to call Parliament (aristocratic power is checked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urt of Star Chamb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ing’s councilors served as jud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ded the self-serving corruption of noble judges and magistrat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urts became more equitab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nry used his influence to confiscate noble lands and weaken the aristocracy and Parlia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ai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ion of Isabella of Castile and Ferdinand of Aragon unite economies but not laws/militaries (neighbors fear pow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nquista – Catholic Spain and new la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quisition lead by Torquemada and Cisneros leads to conform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rried children to Hapsburgs, and Henry VIII of Engl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mote new exploration for the advancement of the empire (gold/silv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1:52:21Z</dcterms:created>
  <dc:creator>Kuenzi</dc:creator>
  <dc:description/>
  <dc:language>en-US</dc:language>
  <cp:lastModifiedBy>Gail</cp:lastModifiedBy>
  <dcterms:modified xsi:type="dcterms:W3CDTF">2012-09-01T20:19:48Z</dcterms:modified>
  <cp:revision>10</cp:revision>
  <dc:subject/>
  <dc:title>New Monarchies</dc:title>
</cp:coreProperties>
</file>